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39600"/>
            <a:ext cx="45720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enaissance and Re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14400" cy="2095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5791320" y="6191280"/>
            <a:ext cx="838080" cy="2095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3" action="ppaction://hlinksldjump"/>
          </p:cNvPr>
          <p:cNvSpPr/>
          <p:nvPr/>
        </p:nvSpPr>
        <p:spPr>
          <a:xfrm>
            <a:off x="6858000" y="6172200"/>
            <a:ext cx="10476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endshow"/>
          </p:cNvPr>
          <p:cNvSpPr/>
          <p:nvPr/>
        </p:nvSpPr>
        <p:spPr>
          <a:xfrm>
            <a:off x="8077320" y="6172200"/>
            <a:ext cx="74268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ationalgallery.org.uk/cgi-bin/WebObjects.dll/CollectionPublisher.woa/wa/zoomImage?workNumber=NG186&amp;collectionSection=work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Main Idea / 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The Renaissance Spreads N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Philosophers and Wr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Ar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Northern Renais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314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issance Art in Northern Euro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80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not be considered an appendage to Italian a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, Italian influence was st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inting in OIL, developed in Flanders, was widely adopted in 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fferences between the two cult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Ita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hange was inspired by humanism with its emphasis on the revival of the values of classical antiquit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No. Europ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hange was driven by religious reform, the return to Christian values, and the revolt against the authority of the Churc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princes &amp; kings were patrons of artis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 of Northern Renaissance 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inuation of late medieval attention to de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y toward realism &amp; naturalism [less emphasis on the “classical ideal”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in landsc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mphasis on middle-class and peasant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of domestic inter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skill in portrai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143000"/>
            <a:ext cx="8229600" cy="18086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00s, German arti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recht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sited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return, used Italian techniques of realism,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 paintings exhibit features unique to northern Rena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s reproduced textures; reflection of objects, scenes outsid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57200" y="3089160"/>
            <a:ext cx="4038120" cy="2854080"/>
            <a:chOff x="457200" y="3089160"/>
            <a:chExt cx="4038120" cy="2854080"/>
          </a:xfrm>
        </p:grpSpPr>
        <p:sp>
          <p:nvSpPr>
            <p:cNvPr id="97" name=""/>
            <p:cNvSpPr/>
            <p:nvPr/>
          </p:nvSpPr>
          <p:spPr>
            <a:xfrm>
              <a:off x="457200" y="3588120"/>
              <a:ext cx="4038120" cy="23551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tists of Netherlands developed own style, Flemish Scho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d technique perfect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an van Eyc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1400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used the everyday with religious; lit candle represents God’s pres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3089160"/>
              <a:ext cx="4038120" cy="4989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lemish 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48320" y="3089160"/>
            <a:ext cx="4038120" cy="2854080"/>
            <a:chOff x="4648320" y="3089160"/>
            <a:chExt cx="4038120" cy="2854080"/>
          </a:xfrm>
        </p:grpSpPr>
        <p:sp>
          <p:nvSpPr>
            <p:cNvPr id="100" name=""/>
            <p:cNvSpPr/>
            <p:nvPr/>
          </p:nvSpPr>
          <p:spPr>
            <a:xfrm>
              <a:off x="4648320" y="3588120"/>
              <a:ext cx="4038120" cy="23551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0s, Pieter Brueghel the Elder used Italian techn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intings showed scenes from everyday peasant li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fferent from mythological scenes of Italian paint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8320" y="3089160"/>
              <a:ext cx="4038120" cy="49896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veryday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r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6000" y="1600200"/>
            <a:ext cx="46483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22a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b22a00">
                      <a:alpha val="50000"/>
                    </a:srgbClr>
                  </a:outerShdw>
                </a:effectLst>
                <a:latin typeface="BlackChancery"/>
              </a:rPr>
              <a:t>Flemish</a:t>
            </a:r>
            <a:endParaRPr b="0" lang="en-US" sz="2400" spc="1" strike="noStrike">
              <a:ln w="19080">
                <a:solidFill>
                  <a:srgbClr val="b22a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b22a00">
                    <a:alpha val="50000"/>
                  </a:srgbClr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22a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b22a00">
                      <a:alpha val="50000"/>
                    </a:srgbClr>
                  </a:outerShdw>
                </a:effectLst>
                <a:latin typeface="BlackChancery"/>
              </a:rPr>
              <a:t>Realism</a:t>
            </a:r>
            <a:endParaRPr b="0" lang="en-US" sz="2400" spc="1" strike="noStrike">
              <a:ln w="19080">
                <a:solidFill>
                  <a:srgbClr val="b22a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b22a00">
                    <a:alpha val="50000"/>
                  </a:srgbClr>
                </a:outerShdw>
              </a:effectLst>
              <a:latin typeface="BlackChancery"/>
              <a:ea typeface="BlackChancery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8680" y="585720"/>
            <a:ext cx="4906800" cy="541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5187960" y="2944800"/>
            <a:ext cx="364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007c79"/>
              </a:buClr>
              <a:buSzPct val="80000"/>
              <a:buFont typeface="GriffinOn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Virgin and Chancellor Rol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143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94160" y="1301760"/>
            <a:ext cx="350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2a00"/>
                </a:solidFill>
                <a:latin typeface="Arial"/>
              </a:rPr>
              <a:t>Jan van Eyck (1395 – 144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'Portrait of Giovanni (?) Arnolfini and his Wife ('The Arnolfini Portrait')'">
            <a:hlinkClick r:id="rId1"/>
          </p:cNvPr>
          <p:cNvPicPr/>
          <p:nvPr/>
        </p:nvPicPr>
        <p:blipFill>
          <a:blip r:embed="rId2"/>
          <a:srcRect l="0" t="0" r="0" b="4000"/>
          <a:stretch/>
        </p:blipFill>
        <p:spPr>
          <a:xfrm>
            <a:off x="0" y="0"/>
            <a:ext cx="4633920" cy="6324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4680" y="1182600"/>
            <a:ext cx="41464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22a00"/>
                </a:solidFill>
                <a:latin typeface="Arial"/>
              </a:rPr>
              <a:t>Giovanni Arnolfini and His Wif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b22a00"/>
                </a:solidFill>
                <a:latin typeface="Arial"/>
              </a:rPr>
              <a:t>(Wedding Portrait)</a:t>
            </a:r>
            <a:br>
              <a:rPr sz="2000"/>
            </a:br>
            <a:r>
              <a:rPr b="1" i="1" lang="en-US" sz="2000" spc="-1" strike="noStrike">
                <a:solidFill>
                  <a:srgbClr val="b22a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b22a00"/>
                </a:solidFill>
                <a:latin typeface="Arial"/>
              </a:rPr>
              <a:t>Jan Van Eyck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b22a00"/>
                </a:solidFill>
                <a:latin typeface="Arial"/>
              </a:rPr>
              <a:t>14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133720" y="1981080"/>
            <a:ext cx="48765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22a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b22a00">
                      <a:alpha val="50000"/>
                    </a:srgbClr>
                  </a:outerShdw>
                </a:effectLst>
                <a:latin typeface="BlackChancery"/>
              </a:rPr>
              <a:t>Germany</a:t>
            </a:r>
            <a:endParaRPr b="0" lang="en-US" sz="2400" spc="1" strike="noStrike">
              <a:ln w="19080">
                <a:solidFill>
                  <a:srgbClr val="b22a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b22a00">
                    <a:alpha val="50000"/>
                  </a:srgbClr>
                </a:outerShdw>
              </a:effectLst>
              <a:latin typeface="BlackChancery"/>
              <a:ea typeface="BlackChancery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640" y="574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lbrecht Durher (1471-1528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st of German art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cholar as well as an art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patron was the Emperor Maximilian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 scient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ote books on geometry, fortifications, and human propor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scious individualism of the Renaissance is seen in his por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lf-Portrait at 2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4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98440" y="1100160"/>
            <a:ext cx="3827520" cy="485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81120" y="457200"/>
            <a:ext cx="35816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hrer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ur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rsemen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the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ocalyps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odcut, 149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The Four Horsemen of the Apocalypse"/>
          <p:cNvPicPr/>
          <p:nvPr/>
        </p:nvPicPr>
        <p:blipFill>
          <a:blip r:embed="rId1">
            <a:lum contrast="6000"/>
          </a:blip>
          <a:srcRect l="3283" t="2362" r="2368" b="1181"/>
          <a:stretch/>
        </p:blipFill>
        <p:spPr>
          <a:xfrm>
            <a:off x="380880" y="304920"/>
            <a:ext cx="46227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760" y="914040"/>
            <a:ext cx="3581280" cy="47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hrer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Last Suppe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odcut, 15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228600"/>
            <a:ext cx="46087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the Renaissance spread to northern Europ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ontributions did writers and philosophers make to the northern Renaissanc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the works of northern artists differ from those of the Italian Renaissanc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issance ideas soon spread beyond Italy to northern Europe by means of trade, travel, and printed material, influencing the art and ideas of the nor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orthern Rena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209680" y="2133720"/>
            <a:ext cx="4876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22a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b22a00">
                      <a:alpha val="50000"/>
                    </a:srgbClr>
                  </a:outerShdw>
                </a:effectLst>
                <a:latin typeface="BlackChancery"/>
              </a:rPr>
              <a:t>England</a:t>
            </a:r>
            <a:endParaRPr b="0" lang="en-US" sz="2400" spc="1" strike="noStrike">
              <a:ln w="19080">
                <a:solidFill>
                  <a:srgbClr val="b22a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b22a00">
                    <a:alpha val="50000"/>
                  </a:srgbClr>
                </a:outerShdw>
              </a:effectLst>
              <a:latin typeface="BlackChancery"/>
              <a:ea typeface="BlackChancery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s Holbein, the Younger (1497-154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49568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great German artists who did most of his work in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in Basel, he befriended Erasm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rasmus Wr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52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VIII was his patron from 153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portraitist noted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ity &amp; detac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conceal the weaknesses of his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403848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133720" y="990720"/>
            <a:ext cx="487656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22a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b22a00">
                      <a:alpha val="50000"/>
                    </a:srgbClr>
                  </a:outerShdw>
                </a:effectLst>
                <a:latin typeface="BlackChancery"/>
              </a:rPr>
              <a:t>The</a:t>
            </a:r>
            <a:endParaRPr b="0" lang="en-US" sz="2400" spc="1" strike="noStrike">
              <a:ln w="19080">
                <a:solidFill>
                  <a:srgbClr val="b22a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b22a00">
                    <a:alpha val="50000"/>
                  </a:srgbClr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22a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b22a00">
                      <a:alpha val="50000"/>
                    </a:srgbClr>
                  </a:outerShdw>
                </a:effectLst>
                <a:latin typeface="BlackChancery"/>
              </a:rPr>
              <a:t>Low</a:t>
            </a:r>
            <a:endParaRPr b="0" lang="en-US" sz="2400" spc="1" strike="noStrike">
              <a:ln w="19080">
                <a:solidFill>
                  <a:srgbClr val="b22a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b22a00">
                    <a:alpha val="50000"/>
                  </a:srgbClr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22a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b22a00">
                      <a:alpha val="50000"/>
                    </a:srgbClr>
                  </a:outerShdw>
                </a:effectLst>
                <a:latin typeface="BlackChancery"/>
              </a:rPr>
              <a:t>Countries</a:t>
            </a:r>
            <a:endParaRPr b="0" lang="en-US" sz="2400" spc="1" strike="noStrike">
              <a:ln w="19080">
                <a:solidFill>
                  <a:srgbClr val="b22a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b22a00">
                    <a:alpha val="50000"/>
                  </a:srgbClr>
                </a:outerShdw>
              </a:effectLst>
              <a:latin typeface="BlackChancery"/>
              <a:ea typeface="BlackChancery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eter Bruegel the Elder (1525-156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8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e of the greatest artistic geniuses of his ag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orked in Antwerp and then moved to Brussel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touch with a circle of Erasmian humanis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as deeply concerned with human vice and folli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master of landscapes; not a portraitis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ople in his works often have round, blank, heavy fac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are expressionless, mindless, and sometimes maliciou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are types, rather than individu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ir purpose is to convey a messag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egel’s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wer of Bab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156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90720" y="990720"/>
            <a:ext cx="7315200" cy="55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133720" y="1981080"/>
            <a:ext cx="48765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22a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b22a00">
                      <a:alpha val="50000"/>
                    </a:srgbClr>
                  </a:outerShdw>
                </a:effectLst>
                <a:latin typeface="BlackChancery"/>
              </a:rPr>
              <a:t>Spain</a:t>
            </a:r>
            <a:endParaRPr b="0" lang="en-US" sz="2400" spc="1" strike="noStrike">
              <a:ln w="19080">
                <a:solidFill>
                  <a:srgbClr val="b22a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b22a00">
                    <a:alpha val="50000"/>
                  </a:srgbClr>
                </a:outerShdw>
              </a:effectLst>
              <a:latin typeface="BlackChancery"/>
              <a:ea typeface="BlackChancery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menikos Theotokopoulos (El Greco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Spanish artist of this period was Gr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41 – 16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eliberately distorts &amp; elongates his figures, and seats them in a lurid, unearthly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uses an agitated, flickering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gnores the rules of perspective, and heightens the effect by areas of brilliant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works were a fitting expression of the Spanish Counter-Re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638320" y="533160"/>
            <a:ext cx="25909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Greco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ist in Agony on the Cros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00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37256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871560"/>
            <a:ext cx="8229600" cy="24462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northern Renaissance artwork differ from that of Italian arti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733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icted everyday objects, people as they actually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143000"/>
            <a:ext cx="8076960" cy="762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de, the movement of artists and scholars, and the development of printing helped spread Renaissance ideas north from Ita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52" name="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06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s cities grew, vast trading network spread across northern Europ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6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etwork dominated by Hanseatic League, merchant organization, 1200s to 1400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276120">
                <a:lnSpc>
                  <a:spcPct val="100000"/>
                </a:lnSpc>
                <a:spcAft>
                  <a:spcPts val="1063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tected members from pirates, other hazard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276120">
                <a:lnSpc>
                  <a:spcPct val="100000"/>
                </a:lnSpc>
                <a:spcAft>
                  <a:spcPts val="1063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uilt lighthouses, trained ship captain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rading Go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55" name="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06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orthern Europeans traded ideas, goods; spread Italian Renaissance north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06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leeing violence, Italian artists brought humanist ideas, painting techniques nort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06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orthern scholars traveled to Italy, brought ideas ho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06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Universities started in France, Netherlands, German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rading Ide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naissance Spreads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ing 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1400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annes Gutenbe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st letters of alphabet on metal plates, locked metal plates on wooden press; perfected movable type pr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, one of most dramatic upheavals world has ever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tal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tenberg’s first publication, 1,282-page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s soon appeared in other cities, made books quickly, inexpens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sion of printed material quickly spread Renaissance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ed Word Available to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only way to reproduce writing was by hand; long, painstak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ovable type, text quickly printed; producing books faster, che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access to books prompted more people to learn to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ook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914400"/>
            <a:ext cx="8229600" cy="24591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Renaissance ideas spread to northern Eur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73392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as were exchanged through trade; artists and scholars traveled between Italy and the north; printing press allowed easier bookmaking; ideas spread with printed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143000"/>
            <a:ext cx="8076960" cy="119952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ern humanists expressed their own id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interests of theology, fiction and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philosophical works, novels, dramas, and po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2438280"/>
            <a:ext cx="2590560" cy="3505320"/>
            <a:chOff x="533520" y="2438280"/>
            <a:chExt cx="2590560" cy="3505320"/>
          </a:xfrm>
        </p:grpSpPr>
        <p:sp>
          <p:nvSpPr>
            <p:cNvPr id="69" name=""/>
            <p:cNvSpPr/>
            <p:nvPr/>
          </p:nvSpPr>
          <p:spPr>
            <a:xfrm>
              <a:off x="533520" y="2815560"/>
              <a:ext cx="2590560" cy="31280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bined Christian ideas, hum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ote of pure, simple Christian life, educating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nned flames of discont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56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man Catholic Church censored, condemned wo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520" y="2438280"/>
              <a:ext cx="2590560" cy="3772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siderius Erasm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276720" y="2438280"/>
            <a:ext cx="2590560" cy="3505320"/>
            <a:chOff x="3276720" y="2438280"/>
            <a:chExt cx="2590560" cy="3505320"/>
          </a:xfrm>
        </p:grpSpPr>
        <p:sp>
          <p:nvSpPr>
            <p:cNvPr id="72" name=""/>
            <p:cNvSpPr/>
            <p:nvPr/>
          </p:nvSpPr>
          <p:spPr>
            <a:xfrm>
              <a:off x="3276720" y="2815560"/>
              <a:ext cx="2590560" cy="31280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re’s best-known work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top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contains criticisms of English government, soc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sents vision of perfect, non-existent society based on rea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76720" y="2438280"/>
              <a:ext cx="2590560" cy="3772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ir Thomas M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019920" y="2438280"/>
            <a:ext cx="2590560" cy="3505320"/>
            <a:chOff x="6019920" y="2438280"/>
            <a:chExt cx="2590560" cy="3505320"/>
          </a:xfrm>
        </p:grpSpPr>
        <p:sp>
          <p:nvSpPr>
            <p:cNvPr id="75" name=""/>
            <p:cNvSpPr/>
            <p:nvPr/>
          </p:nvSpPr>
          <p:spPr>
            <a:xfrm>
              <a:off x="6019920" y="2815560"/>
              <a:ext cx="2590560" cy="31280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alian-born writer focused on role of women in soc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ew up in French court of Charles V; turned to writing when widow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mpioned equality, education for wo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9920" y="2438280"/>
              <a:ext cx="2590560" cy="3772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hristine de Pis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ilosophers and Wri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79" name="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 of language, choice of themes made plays appealing even to unedu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ys helped spread ideas of Renaissance to mass aud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cused on lives of realistic characters, unlike morality pl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y Shakespeare’s death, 1616, London scene of thriving theatre distr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pread Renaissance Ide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82" name="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y believe English playwright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llia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hakespear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greatest wri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ots not original, but treatments of them masterf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ew inspiration from ancient, contemporary liter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nowledge of natural science, humanist topics expressed in pl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William Shakespe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kespeare and His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900000"/>
            <a:ext cx="8229600" cy="24447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characteristics of Renaissance writers’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3733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ed humanist ideas, scientific knowledge, realistic experiences, and so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ke literary counterparts, northern European artists influenced by Italian Renaiss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opted Italian tech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reflected more realistic view of hum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ian artists tried to capture beauty of Greek, Roman gods in pain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ern artists tried to depict people as they really w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jhenry</cp:lastModifiedBy>
  <cp:lastPrinted>2005-02-01T16:21:45Z</cp:lastPrinted>
  <dcterms:modified xsi:type="dcterms:W3CDTF">2011-09-23T14:56:49Z</dcterms:modified>
  <cp:revision>238</cp:revision>
  <dc:subject/>
  <dc:title>PowerPoint Presentation</dc:title>
</cp:coreProperties>
</file>